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475493"/>
        <c:axId val="53317799"/>
      </c:barChart>
      <c:catAx>
        <c:axId val="374754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317799"/>
        <c:crosses val="autoZero"/>
        <c:auto val="1"/>
        <c:lblAlgn val="ctr"/>
        <c:lblOffset val="100"/>
        <c:noMultiLvlLbl val="0"/>
      </c:catAx>
      <c:valAx>
        <c:axId val="533177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4754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A722-53F3-4CE0-96AF-7E3C6693B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023C-1BC5-48A3-8E4F-7C5F786E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B315-4062-4AC4-A030-31C9AD893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55FC-08E6-4144-AFE0-528744BD5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9FF6-A85C-4F02-88D7-E3093E57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AE67-39A0-4B1C-8E52-48C9A72D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1077-E956-4C28-978E-13202CBC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0BE2-B47F-4D8B-9896-AC453D98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E1B6-8915-4103-9A4B-4FCF34A6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2C76-5E24-4616-825B-0F51166A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D086-0B12-4BEC-8573-7A000261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48A8-02EB-4517-81B8-604C0A4F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7DA7F-4FFF-4375-AA96-658E19F090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