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49328"/>
        <c:axId val="83251733"/>
      </c:barChart>
      <c:catAx>
        <c:axId val="36549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51733"/>
        <c:crosses val="autoZero"/>
        <c:auto val="1"/>
        <c:lblAlgn val="ctr"/>
        <c:lblOffset val="100"/>
        <c:noMultiLvlLbl val="0"/>
      </c:catAx>
      <c:valAx>
        <c:axId val="83251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49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70E-14D5-4CA0-9850-6F8AB33A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75A-CFCB-40E2-8AD8-6D23E1B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F19-D5E3-4681-8C8A-1C87EC81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2D8-7D60-4484-8B39-C3BFFCF8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844-8DE5-4E66-8DDF-C7443FD8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E64-1905-45C7-8AC6-C993FAD9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E4E-9F02-49BD-9B17-6565736B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686-ECD8-4F79-82A7-313C72D7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13B-E736-4E8C-B729-6C483CDB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935-1E86-4F25-828E-E239B6F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7D3-12ED-431D-B2CA-2CB0D9C5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F2E-48FC-4DB4-AC6B-7FA80CBD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546C1-C539-40BB-933D-1D151F7CCE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