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87917"/>
        <c:axId val="3674202"/>
      </c:barChart>
      <c:catAx>
        <c:axId val="27387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4202"/>
        <c:crosses val="autoZero"/>
        <c:auto val="1"/>
        <c:lblAlgn val="ctr"/>
        <c:lblOffset val="100"/>
        <c:noMultiLvlLbl val="0"/>
      </c:catAx>
      <c:valAx>
        <c:axId val="36742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87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716-2D19-45F8-8951-7524F4C3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80C-7FEB-4483-B6E6-0F2F88B1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B82D-A0ED-4B35-BD6F-6B65E757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174-D9DE-43DF-BFEA-95F86DA0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6458-8531-409F-9081-731948BC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6CF-D29F-447D-B04D-AE2EC504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C10F-B4FE-432F-A1D3-BADCA835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C27-C2EA-429B-A379-E0D77D5C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183-8C09-45B9-9B28-F743E665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C6D-3498-4682-8C4A-05646752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54A5-B138-42E5-8A16-7D1AE5BD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6AF-CDB5-4066-AA0D-A2705070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DA82F-285B-4C6A-ACE2-9964965857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