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93362"/>
        <c:axId val="36551577"/>
      </c:barChart>
      <c:catAx>
        <c:axId val="19993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51577"/>
        <c:crosses val="autoZero"/>
        <c:auto val="1"/>
        <c:lblAlgn val="ctr"/>
        <c:lblOffset val="100"/>
        <c:noMultiLvlLbl val="0"/>
      </c:catAx>
      <c:valAx>
        <c:axId val="36551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93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AE4-8DAA-4E3A-B391-17BC810F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2DD-2D83-4CEB-AE77-2C9C1E93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40A-90AD-49EB-B7AB-F96203AC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B46-FB05-426C-981A-1740BEB2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551-4695-48AA-8B95-5673B8A1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508-8F42-4F95-ACAB-0340759B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9CE-FDFA-40ED-9BE9-0AC4D186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B99-9D7C-4A62-AFB3-20AE4836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94A-3F03-4338-9150-62DEE1F9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A97-4D2F-4CE9-AF8E-D5230D34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3C7-DBFD-44E3-91B8-8152215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40D-EA67-40BE-84AC-2167CD7B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448CB-5750-48D4-98E3-55188833F4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