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49973"/>
        <c:axId val="73514831"/>
      </c:barChart>
      <c:catAx>
        <c:axId val="67449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4831"/>
        <c:crosses val="autoZero"/>
        <c:auto val="1"/>
        <c:lblAlgn val="ctr"/>
        <c:lblOffset val="100"/>
        <c:noMultiLvlLbl val="0"/>
      </c:catAx>
      <c:valAx>
        <c:axId val="73514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49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575-EB9D-45DE-9E8E-E27B5E28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761-FE90-4A99-A30A-83CAE465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BA4-859A-42EA-8720-9E239399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931-A866-4B32-8EA2-75DF4E5C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908-2D07-445A-A7F4-D155E0A2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B2E-067E-454C-B789-C82C71D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AFA-AE00-4184-9F47-E1FA86F2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674-70CE-4CD4-9C91-AB904CE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4F1-3FBB-4BC0-A3B6-6320698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D19-D954-4A1A-99B0-5FE0D9E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08E-4725-40E2-92A8-7908881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B13-5301-4C28-B869-2FBAFAA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B522A-71C1-44DC-AB8F-E616BDF975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